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7FD-FFA2-4F5A-A31B-967A76A6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3C0-4DCD-4BBB-8D92-B87E65BD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996-B457-4DFF-B204-C366E9D7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2D5-4EF5-43B4-A103-50D6702A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6A19-F509-4D86-9E9E-62E174BC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C823-C052-466F-82A5-49329C4F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609A-B221-4E10-AC10-0501223E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F1C3-40C5-405F-92BD-4C2C5533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75E8-DA95-4A73-BD95-68A00165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A26B-EA36-406F-8C2C-0E454211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AD1B-8BCC-4FFB-A127-0C54D940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BFD-CEAB-4144-B64C-36920D9B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4738-1654-4BB8-BA7B-71CEFEB8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4B4F-A626-48D5-A947-2CC47337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3817-D91E-49B3-A968-1EE70306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2C30-27F9-4FD7-BD0F-5E2BF018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D610-F676-4A9A-8148-72ABC548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2EB2D-DBE0-4FCF-8A0C-A730C535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9A100-9DBB-4A96-95F7-2540426C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58A1A-EBE2-41DC-BAB2-5B2E3420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0E8DC-BF7D-4B87-BD69-9E5C34DE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D3F60-8003-444D-8520-A284260D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CFD-C9A7-4A9D-BDD7-EA6A5C55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EAC00-E16E-4D49-B988-63062792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21153-0C01-4EA4-A4C9-EFF47878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6E7C6-44E1-41AD-B4DE-7CE9AC8E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93BE8-89F4-4CF4-AD80-BC1BF099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18357-5723-4092-AA53-DCFFAB18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0D19-0751-4CD5-AADF-25089E31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054FC-2B22-458E-8DEB-C61ADE70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152992-3652-43AA-80EC-12E62C76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81406-128D-44C0-A1B9-83AA97FB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4AE67-BDA5-45B0-BBB1-A29A1EAB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757-9A0A-47ED-85E9-1F5F6A7D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75A2D-CC05-43D6-8DC5-2E0A8ACB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64CE3-E487-4D6C-AC3A-AF326FBC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42C3A5-F64C-4273-AF4C-4B471CA7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65D5A2-8DF0-48F4-9AEC-E05C469F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69B48-C88B-4E9A-9926-F4BEA496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78266-BBBA-4647-BEF4-A7737AB0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45940D-6ECA-4913-8C4A-E2829BE0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EA1551-85B9-4D86-AC35-350E37A0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72524F-65B2-4028-BD24-84D33F8A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3EB6D-C75B-4AFF-9F18-3819BE61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0E6-E729-40E2-AA1D-0CA218A9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54704B-62CA-4945-9FEC-68C8FEEF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5F972-F401-423D-BAFE-A435B64C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0614D-BB76-418F-B9D0-4192FE62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09FB3-27F4-4EBC-B38D-83F30969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D18AD-B192-4FB1-AB4D-AE83BE5C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81307-5EA2-410F-A84D-7B27B224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A7D65-65FE-4F3D-B29B-CF35A4A6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8A9DF-3BEE-4267-A483-E8844283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38475-2263-4545-80B1-EBA00868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01810-0F99-4C76-819B-BDAC761F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90B-9BA9-4F8A-B759-3D3F6866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3C6E6-C3C5-4F27-B752-FA0B3E76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DF7014-FDF1-4DA6-A349-EC44F2BD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E66668-B627-4910-A416-BC8E302F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DBB120-DDEB-479E-B19A-B4EC0557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B402A-6D51-45C3-8621-806DF137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76342-F353-40BD-A174-12EFE84D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985A5-B3BD-4065-91C3-EE3F622F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D916A0-1D98-4B86-8C93-4DCC37B1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B600A6-FD30-4B7A-86E3-2F986D76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64AB9-67C1-4C0A-B159-6E0FFBC3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662-0D60-4D97-81E9-17943519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DD4410-56D9-4B94-8C37-C058B1BF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E8004-0FF3-40FF-9CF8-BEBFB37D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DA4DD2-198A-4E87-AF9E-1ADAC3C9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698-666F-434E-AD2C-2093E993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E15-19C9-46DC-9DB1-26678B0D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2D68-C5FE-4C88-A686-73F8BC03B35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C0C2-C93D-46F4-95DF-1E9CE951F1D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2480-F7F0-4F36-9CE4-8D8BB2D4491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F034-990D-4CEB-9A71-3DBFB30D262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98D5-616D-4A23-BE4F-30B6E608760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CAD1-73AD-4B6A-B2D2-F5B53B71BE2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2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000" y="1341000"/>
            <a:ext cx="7467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В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известно, процессор является основным вычислительным блоком компьютера, в наибольшей степени определяющим его мощь. Процессор является устройством, исполняющим программу - последовательность команд (инструкций), задуманную программистом и оформленную в виде модуля программного кода. Чтобы понять, что делает процессор, рассмотрим его в окружении системных компонентов IBM PC-совместимого компьютера. Этой компьютерной архитектурой, естественно, не ограничивается сфера применения процессоров. Всем известный IBM PC-совместимый компьютер представляет собой реализацию так называемой фон-неймановской архитектуры вычислительных машин. Эта архитектура была представлена Джоном фон-Нейманом еще в 1945 году и имеет следующие основные признаки. Машина состоит из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ока управления, арифметико-логического устрой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ЛУ)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мяти и устройств ввода/вывод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й реализуе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пция хранимой программ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граммы и данные хранятся в одной и той же памяти. Выполняемые действия определяются блоком управления и АЛУ, которые вместе являются основой центрального процесс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D:\vvsu.gif"/>
          <p:cNvPicPr/>
          <p:nvPr/>
        </p:nvPicPr>
        <p:blipFill>
          <a:blip r:embed="rId1"/>
          <a:stretch/>
        </p:blipFill>
        <p:spPr>
          <a:xfrm>
            <a:off x="14292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микропроцессора i8080 предусматривает возможность обмена как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ак и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жиме. Если в составе МПС использованы только "быстрые" устройства, т.е. такие, которые могут работать с тактовой частотой МП, то передача информации в МЦ осуществляется в синхронном режиме. В этом случае на вход READY МП подается константа "1" и после такта T2 начинается такт T3. При работе с "медленными" устройствами, быстродействие которых не позволяет переключаться с частотой тактового генератора МП, необходимо "растянуть" во времени МЦ, реализовав асинхронный принцип обмена. Для этого в начале МЦ обмена с "медленными" устройствами на входе READY формируется уровень логического нуля. В такте T2 МП анализирует состояние READY, и если READY = 0, то МП после T2 переходит не к T3, а к такту ожидания Tw, который может длиться произвольное число периодов тактового генератора. Переход к T3 осуществляется по фазе Ф1, если в предыдущей Ф2 READY установился в "1". С помощью входа READY можно не только согласовывать работу МП с устройствами различного быстродействия, но и реализовывать пошаговый и потактовый режимы работы М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МЦ"/>
          <p:cNvPicPr/>
          <p:nvPr/>
        </p:nvPicPr>
        <p:blipFill>
          <a:blip r:embed="rId1"/>
          <a:stretch/>
        </p:blipFill>
        <p:spPr>
          <a:xfrm>
            <a:off x="154080" y="357120"/>
            <a:ext cx="7775640" cy="478656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2343600" y="535788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2. Временная диаграмма МЦ "ПРИЕМ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в машинном цикле выполняются следующие действ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адре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информации о начатом МЦ (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значения входных сигнал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ожидание сигнала READY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ем/выдача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внутренняя обработка/пересылка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ализации одного МЦ процессор мож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коман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УВв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стека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вектор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память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стек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на УВыв байт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выходных сигналов МП все перечисленные выше разновидности МЦ отличаются только направлением передачи данных: в МП - циклы 1..5 (ПРИЕМ), из МП - циклы 6..8 (ВЫДАЧ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МЦ2"/>
          <p:cNvPicPr/>
          <p:nvPr/>
        </p:nvPicPr>
        <p:blipFill>
          <a:blip r:embed="rId1"/>
          <a:stretch/>
        </p:blipFill>
        <p:spPr>
          <a:xfrm>
            <a:off x="285840" y="428760"/>
            <a:ext cx="7667640" cy="47862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2235600" y="5500800"/>
            <a:ext cx="45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3. Временная диаграмма МЦ "ВЫДАЧ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фицит внешних выводов МП не позволяет выводить во внешний интерфейс достаточный для эффективного функционирования объем управляющей информации. Для выдачи более полной информации о состоянии МП в текущем МЦ используется мультиплексирование шины данных. В начале каждого МЦ на линии шины данных D[7:0] выдается байт дополнительной управляющей информации (т.н. PSW), разряды которого имеют следующее назнач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0 - подтверждение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1 - запись (в ЗУ) или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2 - обращение в сте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3 - подтверждение остано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4 -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5 - M1 (считывание из памяти первого байта команд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6 - ввод (из УВ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7 - чтение (из З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ичие на D[7:0] управляющей информации отмечается специальным выходным сигналом SY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управляющей информации присутствует на шине данных (ШД) один такт, а использоваться может в течение всего МЦ. Поэтому в МПС, использующих информацию PSW, предусматривается специальный, внешний по отношению к МП, регистр-защелка для фиксации PS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й процессор выбирает и исполняет команды из памяти последовательно, адрес очередной команды задается "счетчиком адреса" в блоке управления. Этот принцип исполнения называется последовательной передачей управления. Данные, с которыми работает программа, могут включать переменные - именованные области памяти, в которых сохраняются значения с целью дальнейшего использования в программе. Фон-неймановская архитектура - не единственный вариант построения ЭВМ, есть и другие, которые не соответствуют указанным принципам (например, потоковые машины). Однако подавляющее большинство современных компьютеров основано именно на этих принципах, включая и сложные многопроцессорные комплексы, которые можно рассматривать как объединение фон-неймановских машин. Конечно же, за более чем полувековую историю ЭВМ классическая архитектура прошла длинный путь развития. В общем смысле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цессора понимается его программная модель, то есть программно-видимые свойства.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икро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нимается внутренняя реализация этой программной модели. Для одной и той же архитектуры разными фирмами и в разных поколениях применяются существенно различные микроархитектурные реализации, при этом, естественно, стремятся к максимальному повышению производительности (скорости исполнения программ). Сейчас существует множество архитектур процессоров, которые делятся на две глобальные категории - RISC и CISC. RISC - Reduced (Restricted) Instruction Set Computer - процессоры (компьютеры) с сокращенной системой коман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процессоры обычно имеют набор однородных регистров универсального назначения, причем их число может быть большим. Система команд отличается относительной простотой, коды инструкций имеют четкую структуру, как правило, с фиксированной длиной. В результате аппаратная реализация такой архитектуры позволяет с небольшими затратами декодировать и выполнять эти инструкции за минимальное (в пределе 1) число тактов синхронизации. Определенные преимущества дает и унификация регистров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ISC - Complete Instruction Set Computer - процессоры (компьютеры) с полным набором инструкций, к которым относится и семейство х86. Состав и назначение их регистров существенно неоднородны, широкий набор команд усложняет декодирование инструкций, на что расходуются аппаратные ресурсы. Возрастает число тактов, необходимое для выполнения инструкци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х86 имеют самую сложную в мире систему команд. Хорошо ли это, вопрос спорный, но груз совместимости с программным обеспечением для IBM PC, имеющим уже 20-летнюю историю, не позволяет расставаться с этим "наследием тяжелого прошлого". В процессорах семейства х86, начиная с 486, применяется комбинированная архитектура - CISC-процессор имеет RISC-ядр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способы организации вычислительного процес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один поток данных (Simple Instruction - Simple Data, SISD) - характерно для традиционной фон-неймановской архитектуры (иногда вместо Simple пишут Singl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множественный поток данных (Simple Instruction - Multiple Data, SIMD) - технология MM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один поток данных (Multiple Instruction - Simple Data, MIS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множественный поток данных (Multiple Instruction - Multiple Data, MIM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-РАЗРЯДНЫЙ МИКРОПРОЦЕССОР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080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59984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  Рис. 9.1 представлена внутренняя структура МП i8080, включающего в себя 8-разрядное АЛУ с буферным регистром и схемой десятичной коррекции, блок РОН, регистры указателя стека SP и счетчика команд PC, первичный управляющий автомат УА, буферные схемы шин адреса и данных и схему управления систе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ий интерфейс представлен 8-разрядной двунаправленной шиной данных D[7:0], 16-разрядной шиной адреса A[15:0] и группой линий  управления. Назначение входных и выходных линий МП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[7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вунаправленная шина данных служит для приема и выдачи данных, приема команды, приема вектора прерывания, выдачи дополнительной управляющей информации (слово 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[15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однонаправленная шина адреса служит для выдачи адреса памяти и устройств ввода/выв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1,Ф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гналы тактового генератора частотой 1..2,5 МГ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i8080"/>
          <p:cNvPicPr/>
          <p:nvPr/>
        </p:nvPicPr>
        <p:blipFill>
          <a:blip r:embed="rId1"/>
          <a:stretch/>
        </p:blipFill>
        <p:spPr>
          <a:xfrm>
            <a:off x="428760" y="214200"/>
            <a:ext cx="6643440" cy="58356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3366360" y="6286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унок 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6840" y="357120"/>
            <a:ext cx="74674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брос (начальная установка и запуск программы с адреса 000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ходной сигнал готовности памяти или ВУ к обмену (обеспечивает асинхронный режим обмена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рос внешнего преры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хват шины (требование прямого доступа в память со стороны В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ись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роцессора к памя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чтение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амяти или ВУ к процессор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YN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идентифицирующий наличие на шине данных дополнительной управляющей информации (PSW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отмечающий состояние ожидания или останова М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внешни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LD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прямого доступа в память (подтверждение захват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ОМАНДНЫЙ ЦИКЛ МИКРОПРОЦЕССОРА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П работает в составе МПС, обмениваясь информацией с памятью и ВУ. В основе работы МП лежи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андный цик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ействия по выбору из памяти и выполнению одной команды. В зависимости от типа и формата команды, способов адресации и числа операндов командный цикл может включать в себя различное число обращений к памяти и ВУ и следовательно - иметь различную дли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командный цикл (КЦ) начинается с извлечения из памяти первого байта команды по адресу, хранящемуся в PC, что команды i8080 имеют длину 1, 2 или 3 байта, причем в первом байте содержится информация о длине команды. В случае 2- или 3-байтовой команды реализуются дополнительные обращения к памяти по соседним (большим) адреса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считывания команды начинается ее выполнение, причем в процессе выполнения может потребоваться еще одно или несколько обращений к памяти или ВУ (чтение операнда, запись результата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реализации команды i8080 может потребоваться от 1 до 5 обращений к памяти (ВУ). Хотя обращения к ЗУ/ВУ располагаются в разных частях КЦ, выполняются они по единым правилам, соответствующим интерфейсу МПС и реализованы на общем оборудовании управляющего автомата. Действия МПС по передаче в/из МП одного байта данных/команды называю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шинным цикл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ИХ ИДЕНТИФИКАЦИЯ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представляет собой последовательность машинных циклов (МЦ), причем КЦ i8080 может содержать от 1 до 5 МЦ, которые принято обозначать M1, M2,..M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обязательно включает в себя действия по передаче байта информации. Кроме того, в некоторых МЦ дополнительно реализуются действия по пересылке и/или преобразованию информации внутри МП. Поэтому длительность МЦ может быть различной - за счет различного числа содержащихся в них машинных тактов (T1, T2,..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инный такт (такт) образует пара сигналов тактового генератора Ф1, Ф2, поэтому длительность такта постоянна - период тактового генератора (за исключением такта Tw - см. ниж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просматривается иерархия процедур при работе микропроцессора (не только i8080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мандный цикл - Машинный цикл - Машинный т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i="1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ому такту соответствует определенное состояние управляющего автомата. Любой МЦ i8080 обязательно содержит такты T1, T2, T3, предназначенные для передачи байта по интерфейсу. МЦ, в которых осуществляется передача и/или преобразование информации в МП, содержат дополнительно один или два такта T4, T5. МП i8080 вырабатывает несколько типов МЦ, основными из которых являются циклы ПРИЕМ и ВЫ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08:11Z</dcterms:modified>
  <cp:revision>21</cp:revision>
  <dc:subject/>
  <dc:title>Микропроцессоры и микроконтроллеры </dc:title>
</cp:coreProperties>
</file>